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4FC-EDA7-4EC4-B8C7-D8EFAA40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5B8-846A-4FBE-93E4-2D481888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680-33F4-4CDC-9081-C4BE5CB5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3F4-6ADF-4AE8-B76B-FBC062D7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836-389C-4AED-AAA4-A8295BE7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045-F1AD-490F-9CA4-E72ED815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0C8-527A-4F5E-8533-82E5E43F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573-D57E-4593-93BE-D4096185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37C-0D08-4A53-94EF-883B4626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B0F-D40F-47B0-8A5F-45B734B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389-CE57-474B-A330-83427C0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B0F-357A-4F89-8332-77790995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67B8-3E06-40E8-BDD9-F0FEF71D7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Desig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sitio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changing a product’s image in relation to its competitor’s im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prlog.org/10748511-new-balance-shoesdiscount-shoes-best-shoes-deals.jpg"/>
          <p:cNvPicPr/>
          <p:nvPr/>
        </p:nvPicPr>
        <p:blipFill>
          <a:blip r:embed="rId1"/>
          <a:stretch/>
        </p:blipFill>
        <p:spPr>
          <a:xfrm>
            <a:off x="2514600" y="3276720"/>
            <a:ext cx="36860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cing and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– the value placed on the goods or services being exchang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is important because it helps determine a company’s profit or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target market willing to pa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any purchased 1,000 bats for $90 each and sold them for $175 each. How much money did the company mak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4"/>
          <p:cNvSpPr/>
          <p:nvPr/>
        </p:nvSpPr>
        <p:spPr>
          <a:xfrm>
            <a:off x="457200" y="3733920"/>
            <a:ext cx="822960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23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icing Consideration and Strate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4800" y="272880"/>
            <a:ext cx="511164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restige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is based on consumer percep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ems are priced well above the average market price to attract consumers who may judge a product’s quality by its pr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300816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236196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4" descr="http://raycatena.com/mypictures/headers/lexus2.jpg"/>
          <p:cNvPicPr/>
          <p:nvPr/>
        </p:nvPicPr>
        <p:blipFill>
          <a:blip r:embed="rId2"/>
          <a:stretch/>
        </p:blipFill>
        <p:spPr>
          <a:xfrm>
            <a:off x="3886200" y="4441680"/>
            <a:ext cx="2743200" cy="131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762120" y="2792520"/>
            <a:ext cx="230796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dd-even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goods with either an odd number or an even number to match the product’s i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dd-pricing suggests a bar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n-pricing reflect a quality i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00400" y="4130640"/>
            <a:ext cx="33336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arget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goods according to what consumers are willing to p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ufactures estimate the target price then work backwards to determine how much to charge wholesalers and retailers for that i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hatasteele.com/wp-content/uploads/Target-Market-Pricing.jpg"/>
          <p:cNvPicPr/>
          <p:nvPr/>
        </p:nvPicPr>
        <p:blipFill>
          <a:blip r:embed="rId1"/>
          <a:stretch/>
        </p:blipFill>
        <p:spPr>
          <a:xfrm>
            <a:off x="3581280" y="4572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pply and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astic demand – change in price will affect the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elastic demand – product is a necessity, there are no substitutions, a price increase is not significant relative to income, or there are time re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5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erence between the retail or wholesale price and the cost of an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st be high enough to cover expenses and ensure a pro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328920" y="36576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centage of total sales of all companies that sell the same type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19047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ce L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all goods in a product line at a specific price poi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6102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ndle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several items as a package for a set pr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www.packworld.com/sites/default/files/styles/lightbox/public/images/issues/11.02/images/Departments/Gatorade.jpg"/>
          <p:cNvPicPr/>
          <p:nvPr/>
        </p:nvPicPr>
        <p:blipFill>
          <a:blip r:embed="rId1"/>
          <a:stretch/>
        </p:blipFill>
        <p:spPr>
          <a:xfrm>
            <a:off x="2819520" y="2133720"/>
            <a:ext cx="3809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I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pecific model or size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572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of closely relat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45720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57200" y="4038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 products a company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pong.info/wp-content/uploads/2012/08/nike-shoes.jpg"/>
          <p:cNvPicPr/>
          <p:nvPr/>
        </p:nvPicPr>
        <p:blipFill>
          <a:blip r:embed="rId1"/>
          <a:stretch/>
        </p:blipFill>
        <p:spPr>
          <a:xfrm>
            <a:off x="7010280" y="533520"/>
            <a:ext cx="1676520" cy="110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counterkicks.com/wp-content/uploads/2012/07/nike-ctr360-trequartista-cleat-nike-id-81-640x404.jpg"/>
          <p:cNvPicPr/>
          <p:nvPr/>
        </p:nvPicPr>
        <p:blipFill>
          <a:blip r:embed="rId2"/>
          <a:stretch/>
        </p:blipFill>
        <p:spPr>
          <a:xfrm>
            <a:off x="5943600" y="2133720"/>
            <a:ext cx="3048120" cy="19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www.sneakerfiles.com/wp-content/uploads/2007/07/nike-kobe-3-clothing-line-4.jpg"/>
          <p:cNvPicPr/>
          <p:nvPr/>
        </p:nvPicPr>
        <p:blipFill>
          <a:blip r:embed="rId3"/>
          <a:stretch/>
        </p:blipFill>
        <p:spPr>
          <a:xfrm>
            <a:off x="380880" y="4495680"/>
            <a:ext cx="2743200" cy="216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ighsnobiety.com/news/wp-content/uploads/2009/08/nike-sb-august-10-540x367.jpg"/>
          <p:cNvPicPr/>
          <p:nvPr/>
        </p:nvPicPr>
        <p:blipFill>
          <a:blip r:embed="rId4"/>
          <a:stretch/>
        </p:blipFill>
        <p:spPr>
          <a:xfrm>
            <a:off x="3505320" y="4800600"/>
            <a:ext cx="2514600" cy="17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baseballplusstore.com/product_images/p/474/bt0601__22697_zoom.jpg"/>
          <p:cNvPicPr/>
          <p:nvPr/>
        </p:nvPicPr>
        <p:blipFill>
          <a:blip r:embed="rId5"/>
          <a:stretch/>
        </p:blipFill>
        <p:spPr>
          <a:xfrm>
            <a:off x="5334120" y="4648320"/>
            <a:ext cx="36194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oss-leader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an item at cost or below to draw customers into the sto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666880" y="5345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89.00 (regularly $100.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ield-Management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items at different prices to maximize revenue when limited capacity is involv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071800" y="2438280"/>
            <a:ext cx="50004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ce Fix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egal practice whereby competitors conspire to set the same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rman Anti Trust Act prohibits price fix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www.ftc.gov/bcp/edu/microsites/youarehere/pages/images/cinema_shermanact.png"/>
          <p:cNvPicPr/>
          <p:nvPr/>
        </p:nvPicPr>
        <p:blipFill>
          <a:blip r:embed="rId1"/>
          <a:stretch/>
        </p:blipFill>
        <p:spPr>
          <a:xfrm>
            <a:off x="3200400" y="3276720"/>
            <a:ext cx="22860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mer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and used by the ultimate consumer for personal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by the organization for use in their op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brentwood.thefuntimesguide.com/images/blogs/shoes-and-socks-fleet-feet.jpg"/>
          <p:cNvPicPr/>
          <p:nvPr/>
        </p:nvPicPr>
        <p:blipFill>
          <a:blip r:embed="rId1"/>
          <a:stretch/>
        </p:blipFill>
        <p:spPr>
          <a:xfrm>
            <a:off x="2590920" y="3657600"/>
            <a:ext cx="4114800" cy="27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of Dif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unique characteristic or benefit that sets the product apart from a competitor’s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notflashyjustbright.com/wp-content/uploads/2011/11/2011-World-Series-Sound-Check-Music-Blog.jpeg"/>
          <p:cNvPicPr/>
          <p:nvPr/>
        </p:nvPicPr>
        <p:blipFill>
          <a:blip r:embed="rId1"/>
          <a:stretch/>
        </p:blipFill>
        <p:spPr>
          <a:xfrm>
            <a:off x="2895480" y="2819520"/>
            <a:ext cx="3400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in New Produc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een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iz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upload.wikimedia.org/wikipedia/commons/thumb/0/0b/SWOT_en.svg/360px-SWOT_en.svg.png"/>
          <p:cNvPicPr/>
          <p:nvPr/>
        </p:nvPicPr>
        <p:blipFill>
          <a:blip r:embed="rId1"/>
          <a:srcRect l="0" t="15323" r="0" b="0"/>
          <a:stretch/>
        </p:blipFill>
        <p:spPr>
          <a:xfrm>
            <a:off x="3505320" y="1447920"/>
            <a:ext cx="4419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nel of six to ten consumers who discuss their opinions about a topic under the guidance of a moder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msresearchinc.com/images/Focus%20Group.jpg"/>
          <p:cNvPicPr/>
          <p:nvPr/>
        </p:nvPicPr>
        <p:blipFill>
          <a:blip r:embed="rId1"/>
          <a:stretch/>
        </p:blipFill>
        <p:spPr>
          <a:xfrm>
            <a:off x="2666880" y="34290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process that involves producing and marketing a new produ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roduction – main focus is promoting consumer awareness and getting consumers to try the produ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th – more competitors enter the marketplace if they see a new product is successful (Powerade/Gatorade) Distribution is importa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urity – sales begin to slow 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ine – sales begin to drop. Technology advances can cause entire categories to entire decline s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0:25:34Z</dcterms:created>
  <dc:creator>Christina</dc:creator>
  <dc:description/>
  <dc:language>en-US</dc:language>
  <cp:lastModifiedBy>008736</cp:lastModifiedBy>
  <dcterms:modified xsi:type="dcterms:W3CDTF">2012-10-16T14:40:59Z</dcterms:modified>
  <cp:revision>12</cp:revision>
  <dc:subject/>
  <dc:title>Product Design</dc:title>
</cp:coreProperties>
</file>